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A116-9E93-45C0-B480-F8810C2C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C3E8-062D-4D5E-8ABF-3C780DA4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7710-1E37-497D-A909-83CD2E9F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AC66-C458-4907-ADD3-67FA4B70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FFD9-FCF2-4FEE-B849-61F0CC6F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D327-27F3-49B2-9E22-5E1065BF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D0B6-08D0-42D6-88E7-5C55CB8B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5E7D-FB89-4280-9D7D-9C760961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C20D-2FB3-40BE-880B-349EE8AE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93F5-DF8C-43CA-AA10-F0E45F7B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B99A-2541-4FF8-9C46-B3B781DF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7452-5CFE-4661-86CA-2D6581D1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E9FA-387E-4B81-930E-FE9F4456DF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1619280" y="0"/>
            <a:ext cx="5753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685800" y="-27000"/>
            <a:ext cx="777240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Felix Titling"/>
              </a:rPr>
              <a:t>M&amp;EE Networking Group</a:t>
            </a:r>
            <a:br>
              <a:rPr sz="4400"/>
            </a:br>
            <a:r>
              <a:rPr b="1" lang="en-GB" sz="6000" spc="-1" strike="noStrike">
                <a:solidFill>
                  <a:srgbClr val="3333cc"/>
                </a:solidFill>
                <a:latin typeface="Felix Titling"/>
              </a:rPr>
              <a:t>12</a:t>
            </a:r>
            <a:r>
              <a:rPr b="1" lang="en-GB" sz="4400" spc="-1" strike="noStrike" baseline="30000">
                <a:solidFill>
                  <a:srgbClr val="3333cc"/>
                </a:solidFill>
                <a:latin typeface="Felix Titling"/>
              </a:rPr>
              <a:t>th</a:t>
            </a:r>
            <a:r>
              <a:rPr b="1" lang="en-GB" sz="4400" spc="-1" strike="noStrike">
                <a:solidFill>
                  <a:srgbClr val="3333cc"/>
                </a:solidFill>
                <a:latin typeface="Felix Titling"/>
              </a:rPr>
              <a:t> Plenary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37160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Westwood Training Centre, Cov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15</a:t>
            </a:r>
            <a:r>
              <a:rPr b="0" lang="en-GB" sz="3200" spc="-1" strike="noStrike" baseline="30000">
                <a:solidFill>
                  <a:srgbClr val="3333cc"/>
                </a:solidFill>
                <a:latin typeface="Times New Roman"/>
              </a:rPr>
              <a:t>th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June 20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684360" y="4316400"/>
            <a:ext cx="7772400" cy="21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Felix Titling"/>
              </a:rPr>
              <a:t>Main Group</a:t>
            </a:r>
            <a:br>
              <a:rPr sz="4400"/>
            </a:br>
            <a:r>
              <a:rPr b="1" lang="en-GB" sz="4400" spc="-1" strike="noStrike">
                <a:solidFill>
                  <a:srgbClr val="3333cc"/>
                </a:solidFill>
                <a:latin typeface="Felix Titling"/>
              </a:rPr>
              <a:t>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Felix Titling"/>
              </a:rPr>
              <a:t>Mick J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34920" y="44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M&amp;EE Group has developed this plan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755640" y="58104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6a6a6"/>
                </a:solidFill>
                <a:latin typeface="Arial"/>
                <a:ea typeface="Times New Roman"/>
              </a:rPr>
              <a:t>Identify and maintain a </a:t>
            </a:r>
            <a:r>
              <a:rPr b="0" lang="en-GB" sz="24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“</a:t>
            </a:r>
            <a:r>
              <a:rPr b="0" lang="en-GB" sz="2400" spc="-1" strike="noStrike">
                <a:solidFill>
                  <a:srgbClr val="a6a6a6"/>
                </a:solidFill>
                <a:latin typeface="Arial"/>
                <a:ea typeface="Times New Roman"/>
              </a:rPr>
              <a:t>common to all</a:t>
            </a:r>
            <a:r>
              <a:rPr b="0" lang="en-GB" sz="24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”</a:t>
            </a:r>
            <a:r>
              <a:rPr b="0" lang="en-GB" sz="2400" spc="-1" strike="noStrike">
                <a:solidFill>
                  <a:srgbClr val="a6a6a6"/>
                </a:solidFill>
                <a:latin typeface="Arial"/>
                <a:ea typeface="Times New Roman"/>
              </a:rPr>
              <a:t> top 10 risk profile associated with OTM/O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755640" y="148428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 risk control measures to address identified risks in a consistent way leading to continuous improvement of safety performance and management arran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2"/>
          <p:cNvSpPr/>
          <p:nvPr/>
        </p:nvSpPr>
        <p:spPr>
          <a:xfrm>
            <a:off x="34920" y="44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M&amp;EE Group has developed this plan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755640" y="58104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6a6a6"/>
                </a:solidFill>
                <a:latin typeface="Arial"/>
                <a:ea typeface="Times New Roman"/>
              </a:rPr>
              <a:t>Identify and maintain a </a:t>
            </a:r>
            <a:r>
              <a:rPr b="0" lang="en-GB" sz="24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“</a:t>
            </a:r>
            <a:r>
              <a:rPr b="0" lang="en-GB" sz="2400" spc="-1" strike="noStrike">
                <a:solidFill>
                  <a:srgbClr val="a6a6a6"/>
                </a:solidFill>
                <a:latin typeface="Arial"/>
                <a:ea typeface="Times New Roman"/>
              </a:rPr>
              <a:t>common to all</a:t>
            </a:r>
            <a:r>
              <a:rPr b="0" lang="en-GB" sz="24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”</a:t>
            </a:r>
            <a:r>
              <a:rPr b="0" lang="en-GB" sz="2400" spc="-1" strike="noStrike">
                <a:solidFill>
                  <a:srgbClr val="a6a6a6"/>
                </a:solidFill>
                <a:latin typeface="Arial"/>
                <a:ea typeface="Times New Roman"/>
              </a:rPr>
              <a:t> top 10 risk profile associated with OTM/O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755640" y="148428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6a6a6"/>
                </a:solidFill>
                <a:latin typeface="Arial"/>
                <a:ea typeface="Times New Roman"/>
              </a:rPr>
              <a:t>Develop risk control measures to address identified risks in a consistent way leading to continuous improvement of safety performance and management arran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826920" y="2781360"/>
            <a:ext cx="83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 a performance indicator model (PIM) specific to OTM/OTP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2"/>
          <p:cNvSpPr/>
          <p:nvPr/>
        </p:nvSpPr>
        <p:spPr>
          <a:xfrm>
            <a:off x="34920" y="44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M&amp;EE Group has developed this plan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755640" y="58104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6a6a6"/>
                </a:solidFill>
                <a:latin typeface="Arial"/>
                <a:ea typeface="Times New Roman"/>
              </a:rPr>
              <a:t>Identify and maintain a </a:t>
            </a:r>
            <a:r>
              <a:rPr b="0" lang="en-GB" sz="24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“</a:t>
            </a:r>
            <a:r>
              <a:rPr b="0" lang="en-GB" sz="2400" spc="-1" strike="noStrike">
                <a:solidFill>
                  <a:srgbClr val="a6a6a6"/>
                </a:solidFill>
                <a:latin typeface="Arial"/>
                <a:ea typeface="Times New Roman"/>
              </a:rPr>
              <a:t>common to all</a:t>
            </a:r>
            <a:r>
              <a:rPr b="0" lang="en-GB" sz="24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”</a:t>
            </a:r>
            <a:r>
              <a:rPr b="0" lang="en-GB" sz="2400" spc="-1" strike="noStrike">
                <a:solidFill>
                  <a:srgbClr val="a6a6a6"/>
                </a:solidFill>
                <a:latin typeface="Arial"/>
                <a:ea typeface="Times New Roman"/>
              </a:rPr>
              <a:t> top 10 risk profile associated with OTM/O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755640" y="148428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6a6a6"/>
                </a:solidFill>
                <a:latin typeface="Arial"/>
                <a:ea typeface="Times New Roman"/>
              </a:rPr>
              <a:t>Develop risk control measures to address identified risks in a consistent way leading to continuous improvement of safety performance and management arran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826920" y="2781360"/>
            <a:ext cx="83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6a6a6"/>
                </a:solidFill>
                <a:latin typeface="Arial"/>
                <a:ea typeface="Times New Roman"/>
              </a:rPr>
              <a:t>Develop a performance indicator model (PIM) specific to OTM/OTP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55640" y="378936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 arrangements for learning from operational events across the UK, European and Worldwide rail industr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0" y="5089320"/>
            <a:ext cx="9144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ach individual company will continue to manage their individually specific risks associated with their scope of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34920" y="44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M&amp;EE Group has developed this plan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755640" y="58104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 and maintain 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mon to al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op 10 risk profile associated with OTM/O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755640" y="148428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 risk control measures to address identified risks in a consistent way leading to continuous improvement of safety performance and management arran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826920" y="2781360"/>
            <a:ext cx="83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 a performance indicator model (PIM) specific to OTM/OTP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55640" y="378936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 arrangements for learning from operational events across the UK, European and Worldwide rail industr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2484360" y="1341360"/>
            <a:ext cx="4280040" cy="3959280"/>
          </a:xfrm>
          <a:prstGeom prst="rect">
            <a:avLst/>
          </a:prstGeom>
          <a:ln w="0">
            <a:noFill/>
          </a:ln>
        </p:spPr>
      </p:pic>
      <p:grpSp>
        <p:nvGrpSpPr>
          <p:cNvPr id="156" name="TextBox 2"/>
          <p:cNvGrpSpPr/>
          <p:nvPr/>
        </p:nvGrpSpPr>
        <p:grpSpPr>
          <a:xfrm>
            <a:off x="5913360" y="628560"/>
            <a:ext cx="3144960" cy="882720"/>
            <a:chOff x="5913360" y="628560"/>
            <a:chExt cx="3144960" cy="882720"/>
          </a:xfrm>
        </p:grpSpPr>
        <p:pic>
          <p:nvPicPr>
            <p:cNvPr id="157" name="TextBox 2" descr=""/>
            <p:cNvPicPr/>
            <p:nvPr/>
          </p:nvPicPr>
          <p:blipFill>
            <a:blip r:embed="rId2"/>
            <a:stretch/>
          </p:blipFill>
          <p:spPr>
            <a:xfrm>
              <a:off x="5913360" y="628560"/>
              <a:ext cx="3144960" cy="8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940360" y="654120"/>
              <a:ext cx="309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&amp;EE Group performance indicat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TextBox 3"/>
          <p:cNvGrpSpPr/>
          <p:nvPr/>
        </p:nvGrpSpPr>
        <p:grpSpPr>
          <a:xfrm>
            <a:off x="523800" y="1109520"/>
            <a:ext cx="2786040" cy="511200"/>
            <a:chOff x="523800" y="1109520"/>
            <a:chExt cx="2786040" cy="511200"/>
          </a:xfrm>
        </p:grpSpPr>
        <p:pic>
          <p:nvPicPr>
            <p:cNvPr id="160" name="TextBox 3" descr=""/>
            <p:cNvPicPr/>
            <p:nvPr/>
          </p:nvPicPr>
          <p:blipFill>
            <a:blip r:embed="rId3"/>
            <a:stretch/>
          </p:blipFill>
          <p:spPr>
            <a:xfrm>
              <a:off x="523800" y="1109520"/>
              <a:ext cx="27860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47560" y="113364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evelop risk 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TextBox 4"/>
          <p:cNvGrpSpPr/>
          <p:nvPr/>
        </p:nvGrpSpPr>
        <p:grpSpPr>
          <a:xfrm>
            <a:off x="6205680" y="4127400"/>
            <a:ext cx="2786040" cy="878040"/>
            <a:chOff x="6205680" y="4127400"/>
            <a:chExt cx="2786040" cy="878040"/>
          </a:xfrm>
        </p:grpSpPr>
        <p:pic>
          <p:nvPicPr>
            <p:cNvPr id="163" name="TextBox 4" descr=""/>
            <p:cNvPicPr/>
            <p:nvPr/>
          </p:nvPicPr>
          <p:blipFill>
            <a:blip r:embed="rId4"/>
            <a:stretch/>
          </p:blipFill>
          <p:spPr>
            <a:xfrm>
              <a:off x="6205680" y="4127400"/>
              <a:ext cx="278604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227640" y="4149720"/>
              <a:ext cx="273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&amp;EE Group integrated pl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TextBox 5"/>
          <p:cNvGrpSpPr/>
          <p:nvPr/>
        </p:nvGrpSpPr>
        <p:grpSpPr>
          <a:xfrm>
            <a:off x="2097000" y="5303880"/>
            <a:ext cx="4011840" cy="1243080"/>
            <a:chOff x="2097000" y="5303880"/>
            <a:chExt cx="4011840" cy="1243080"/>
          </a:xfrm>
        </p:grpSpPr>
        <p:pic>
          <p:nvPicPr>
            <p:cNvPr id="166" name="TextBox 5" descr=""/>
            <p:cNvPicPr/>
            <p:nvPr/>
          </p:nvPicPr>
          <p:blipFill>
            <a:blip r:embed="rId5"/>
            <a:stretch/>
          </p:blipFill>
          <p:spPr>
            <a:xfrm>
              <a:off x="2097000" y="5303880"/>
              <a:ext cx="401184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124000" y="532440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&amp;EE Group compan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nfrastructure manag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RSS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TextBox 6"/>
          <p:cNvGrpSpPr/>
          <p:nvPr/>
        </p:nvGrpSpPr>
        <p:grpSpPr>
          <a:xfrm>
            <a:off x="152280" y="2755800"/>
            <a:ext cx="2286000" cy="1249560"/>
            <a:chOff x="152280" y="2755800"/>
            <a:chExt cx="2286000" cy="1249560"/>
          </a:xfrm>
        </p:grpSpPr>
        <p:pic>
          <p:nvPicPr>
            <p:cNvPr id="169" name="TextBox 6" descr=""/>
            <p:cNvPicPr/>
            <p:nvPr/>
          </p:nvPicPr>
          <p:blipFill>
            <a:blip r:embed="rId6"/>
            <a:stretch/>
          </p:blipFill>
          <p:spPr>
            <a:xfrm>
              <a:off x="152280" y="2755800"/>
              <a:ext cx="228600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79280" y="2781360"/>
              <a:ext cx="223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&amp;EE Group meetings forward agen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2484360" y="1341360"/>
            <a:ext cx="4280040" cy="3959280"/>
          </a:xfrm>
          <a:prstGeom prst="rect">
            <a:avLst/>
          </a:prstGeom>
          <a:ln w="0">
            <a:noFill/>
          </a:ln>
        </p:spPr>
      </p:pic>
      <p:grpSp>
        <p:nvGrpSpPr>
          <p:cNvPr id="172" name="TextBox 2"/>
          <p:cNvGrpSpPr/>
          <p:nvPr/>
        </p:nvGrpSpPr>
        <p:grpSpPr>
          <a:xfrm>
            <a:off x="5913360" y="628560"/>
            <a:ext cx="3144960" cy="882720"/>
            <a:chOff x="5913360" y="628560"/>
            <a:chExt cx="3144960" cy="882720"/>
          </a:xfrm>
        </p:grpSpPr>
        <p:pic>
          <p:nvPicPr>
            <p:cNvPr id="173" name="TextBox 2" descr=""/>
            <p:cNvPicPr/>
            <p:nvPr/>
          </p:nvPicPr>
          <p:blipFill>
            <a:blip r:embed="rId2"/>
            <a:stretch/>
          </p:blipFill>
          <p:spPr>
            <a:xfrm>
              <a:off x="5913360" y="628560"/>
              <a:ext cx="3144960" cy="8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940360" y="654120"/>
              <a:ext cx="309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&amp;EE Group performance indicat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TextBox 3"/>
          <p:cNvGrpSpPr/>
          <p:nvPr/>
        </p:nvGrpSpPr>
        <p:grpSpPr>
          <a:xfrm>
            <a:off x="523800" y="1109520"/>
            <a:ext cx="2786040" cy="511200"/>
            <a:chOff x="523800" y="1109520"/>
            <a:chExt cx="2786040" cy="511200"/>
          </a:xfrm>
        </p:grpSpPr>
        <p:pic>
          <p:nvPicPr>
            <p:cNvPr id="176" name="TextBox 3" descr=""/>
            <p:cNvPicPr/>
            <p:nvPr/>
          </p:nvPicPr>
          <p:blipFill>
            <a:blip r:embed="rId3"/>
            <a:stretch/>
          </p:blipFill>
          <p:spPr>
            <a:xfrm>
              <a:off x="523800" y="1109520"/>
              <a:ext cx="27860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547560" y="113364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evelop risk 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TextBox 4"/>
          <p:cNvGrpSpPr/>
          <p:nvPr/>
        </p:nvGrpSpPr>
        <p:grpSpPr>
          <a:xfrm>
            <a:off x="6205680" y="4127400"/>
            <a:ext cx="2786040" cy="878040"/>
            <a:chOff x="6205680" y="4127400"/>
            <a:chExt cx="2786040" cy="878040"/>
          </a:xfrm>
        </p:grpSpPr>
        <p:pic>
          <p:nvPicPr>
            <p:cNvPr id="179" name="TextBox 4" descr=""/>
            <p:cNvPicPr/>
            <p:nvPr/>
          </p:nvPicPr>
          <p:blipFill>
            <a:blip r:embed="rId4"/>
            <a:stretch/>
          </p:blipFill>
          <p:spPr>
            <a:xfrm>
              <a:off x="6205680" y="4127400"/>
              <a:ext cx="278604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6227640" y="4149720"/>
              <a:ext cx="273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&amp;EE Group integrated pl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TextBox 5"/>
          <p:cNvGrpSpPr/>
          <p:nvPr/>
        </p:nvGrpSpPr>
        <p:grpSpPr>
          <a:xfrm>
            <a:off x="2097000" y="5303880"/>
            <a:ext cx="4011840" cy="1243080"/>
            <a:chOff x="2097000" y="5303880"/>
            <a:chExt cx="4011840" cy="1243080"/>
          </a:xfrm>
        </p:grpSpPr>
        <p:pic>
          <p:nvPicPr>
            <p:cNvPr id="182" name="TextBox 5" descr=""/>
            <p:cNvPicPr/>
            <p:nvPr/>
          </p:nvPicPr>
          <p:blipFill>
            <a:blip r:embed="rId5"/>
            <a:stretch/>
          </p:blipFill>
          <p:spPr>
            <a:xfrm>
              <a:off x="2097000" y="5303880"/>
              <a:ext cx="401184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2124000" y="532440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&amp;EE Group compan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nfrastructure manag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RSS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TextBox 6"/>
          <p:cNvGrpSpPr/>
          <p:nvPr/>
        </p:nvGrpSpPr>
        <p:grpSpPr>
          <a:xfrm>
            <a:off x="152280" y="2755800"/>
            <a:ext cx="2286000" cy="1249560"/>
            <a:chOff x="152280" y="2755800"/>
            <a:chExt cx="2286000" cy="1249560"/>
          </a:xfrm>
        </p:grpSpPr>
        <p:pic>
          <p:nvPicPr>
            <p:cNvPr id="185" name="TextBox 6" descr=""/>
            <p:cNvPicPr/>
            <p:nvPr/>
          </p:nvPicPr>
          <p:blipFill>
            <a:blip r:embed="rId6"/>
            <a:stretch/>
          </p:blipFill>
          <p:spPr>
            <a:xfrm>
              <a:off x="152280" y="2755800"/>
              <a:ext cx="228600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179280" y="2781360"/>
              <a:ext cx="223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&amp;EE Group meetings forward agen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TextBox 7"/>
          <p:cNvGrpSpPr/>
          <p:nvPr/>
        </p:nvGrpSpPr>
        <p:grpSpPr>
          <a:xfrm>
            <a:off x="152280" y="165240"/>
            <a:ext cx="4950000" cy="2601720"/>
            <a:chOff x="152280" y="165240"/>
            <a:chExt cx="4950000" cy="2601720"/>
          </a:xfrm>
        </p:grpSpPr>
        <p:pic>
          <p:nvPicPr>
            <p:cNvPr id="188" name="TextBox 7" descr=""/>
            <p:cNvPicPr/>
            <p:nvPr/>
          </p:nvPicPr>
          <p:blipFill>
            <a:blip r:embed="rId7"/>
            <a:stretch/>
          </p:blipFill>
          <p:spPr>
            <a:xfrm>
              <a:off x="152280" y="165240"/>
              <a:ext cx="4950000" cy="26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79280" y="189000"/>
              <a:ext cx="489744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evelop a OTM/OTP specific risk model using the industry SRM as the foundation but also addressing the risks i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ngineering Possessions/Worksi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epots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Yards and si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Other Infrastructure Managers infrastructur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TextBox 8"/>
          <p:cNvGrpSpPr/>
          <p:nvPr/>
        </p:nvGrpSpPr>
        <p:grpSpPr>
          <a:xfrm>
            <a:off x="5267160" y="165240"/>
            <a:ext cx="3724560" cy="3217680"/>
            <a:chOff x="5267160" y="165240"/>
            <a:chExt cx="3724560" cy="3217680"/>
          </a:xfrm>
        </p:grpSpPr>
        <p:pic>
          <p:nvPicPr>
            <p:cNvPr id="191" name="TextBox 8" descr=""/>
            <p:cNvPicPr/>
            <p:nvPr/>
          </p:nvPicPr>
          <p:blipFill>
            <a:blip r:embed="rId8"/>
            <a:stretch/>
          </p:blipFill>
          <p:spPr>
            <a:xfrm>
              <a:off x="5267160" y="165240"/>
              <a:ext cx="3724560" cy="32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5292720" y="189000"/>
              <a:ext cx="367200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Operational Saf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echnical Saf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Workforce Saf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Infrastructure Saf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Imported Ris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Individual Accident/Incident ev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International Learning Opportuniti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egulatory Action/Enforceme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TextBox 9"/>
          <p:cNvGrpSpPr/>
          <p:nvPr/>
        </p:nvGrpSpPr>
        <p:grpSpPr>
          <a:xfrm>
            <a:off x="3754440" y="3408480"/>
            <a:ext cx="5237280" cy="1614240"/>
            <a:chOff x="3754440" y="3408480"/>
            <a:chExt cx="5237280" cy="1614240"/>
          </a:xfrm>
        </p:grpSpPr>
        <p:pic>
          <p:nvPicPr>
            <p:cNvPr id="194" name="TextBox 9" descr=""/>
            <p:cNvPicPr/>
            <p:nvPr/>
          </p:nvPicPr>
          <p:blipFill>
            <a:blip r:embed="rId9"/>
            <a:stretch/>
          </p:blipFill>
          <p:spPr>
            <a:xfrm>
              <a:off x="3754440" y="3408480"/>
              <a:ext cx="5237280" cy="16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780000" y="3429000"/>
              <a:ext cx="5184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evelop the Integrated Plan to provide for a consistent approach to risk reduction and improvements across the M&amp;EE communit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TextBox 11"/>
          <p:cNvGrpSpPr/>
          <p:nvPr/>
        </p:nvGrpSpPr>
        <p:grpSpPr>
          <a:xfrm>
            <a:off x="3395520" y="5278320"/>
            <a:ext cx="4011840" cy="506520"/>
            <a:chOff x="3395520" y="5278320"/>
            <a:chExt cx="4011840" cy="506520"/>
          </a:xfrm>
        </p:grpSpPr>
        <p:pic>
          <p:nvPicPr>
            <p:cNvPr id="197" name="TextBox 11" descr=""/>
            <p:cNvPicPr/>
            <p:nvPr/>
          </p:nvPicPr>
          <p:blipFill>
            <a:blip r:embed="rId10"/>
            <a:stretch/>
          </p:blipFill>
          <p:spPr>
            <a:xfrm>
              <a:off x="3395520" y="5278320"/>
              <a:ext cx="40118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3419640" y="5300640"/>
              <a:ext cx="39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eliver the risk improv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TextBox 12"/>
          <p:cNvGrpSpPr/>
          <p:nvPr/>
        </p:nvGrpSpPr>
        <p:grpSpPr>
          <a:xfrm>
            <a:off x="304920" y="2908440"/>
            <a:ext cx="3213000" cy="2358720"/>
            <a:chOff x="304920" y="2908440"/>
            <a:chExt cx="3213000" cy="2358720"/>
          </a:xfrm>
        </p:grpSpPr>
        <p:pic>
          <p:nvPicPr>
            <p:cNvPr id="200" name="TextBox 12" descr=""/>
            <p:cNvPicPr/>
            <p:nvPr/>
          </p:nvPicPr>
          <p:blipFill>
            <a:blip r:embed="rId11"/>
            <a:stretch/>
          </p:blipFill>
          <p:spPr>
            <a:xfrm>
              <a:off x="304920" y="2908440"/>
              <a:ext cx="3213000" cy="23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331920" y="2933640"/>
              <a:ext cx="31604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onitor KPIs at every M&amp;EE Group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eed into continuous element of improvement pl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Xi2342background trans"/>
          <p:cNvPicPr/>
          <p:nvPr/>
        </p:nvPicPr>
        <p:blipFill>
          <a:blip r:embed="rId1"/>
          <a:stretch/>
        </p:blipFill>
        <p:spPr>
          <a:xfrm>
            <a:off x="0" y="0"/>
            <a:ext cx="9144000" cy="71676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179280" y="189000"/>
            <a:ext cx="896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0" y="333360"/>
            <a:ext cx="54356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pperplate Gothic Light"/>
              </a:rPr>
              <a:t>THANK 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260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Members of M&amp;EE Net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-30240" y="126828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rmanent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-36360" y="2693880"/>
            <a:ext cx="31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M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2436840" y="1789200"/>
            <a:ext cx="37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Am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Babc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Balfour Beat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Co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Hars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Vol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2436840" y="4057560"/>
            <a:ext cx="37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Network R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London Under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2417760" y="4869000"/>
            <a:ext cx="37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RS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13"/>
          <p:cNvSpPr/>
          <p:nvPr/>
        </p:nvSpPr>
        <p:spPr>
          <a:xfrm>
            <a:off x="2436840" y="5289480"/>
            <a:ext cx="37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Rail Plant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15"/>
          <p:cNvSpPr/>
          <p:nvPr/>
        </p:nvSpPr>
        <p:spPr>
          <a:xfrm>
            <a:off x="49320" y="4038480"/>
            <a:ext cx="27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rastructure man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16"/>
          <p:cNvSpPr/>
          <p:nvPr/>
        </p:nvSpPr>
        <p:spPr>
          <a:xfrm>
            <a:off x="2436840" y="5715000"/>
            <a:ext cx="37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John Ocke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Richard Sh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Mick J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17"/>
          <p:cNvSpPr/>
          <p:nvPr/>
        </p:nvSpPr>
        <p:spPr>
          <a:xfrm>
            <a:off x="49320" y="5694480"/>
            <a:ext cx="23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-opted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18"/>
          <p:cNvSpPr/>
          <p:nvPr/>
        </p:nvSpPr>
        <p:spPr>
          <a:xfrm>
            <a:off x="5580000" y="12906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iennial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19"/>
          <p:cNvSpPr/>
          <p:nvPr/>
        </p:nvSpPr>
        <p:spPr>
          <a:xfrm>
            <a:off x="6173640" y="2060640"/>
            <a:ext cx="310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ufacturers and consulta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P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7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7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50"/>
                            </p:stCondLst>
                            <p:childTnLst>
                              <p:par>
                                <p:cTn id="21" nodeType="afterEffect" fill="hold" presetClass="entr" presetID="22" presetSubtype="1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3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500"/>
                            </p:stCondLst>
                            <p:childTnLst>
                              <p:par>
                                <p:cTn id="25" nodeType="afterEffect" fill="hold" presetClass="entr" presetID="22" presetSubtype="8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500"/>
                            </p:stCondLst>
                            <p:childTnLst>
                              <p:par>
                                <p:cTn id="29" nodeType="afterEffect" fill="hold" presetClass="entr" presetID="22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" nodeType="afterEffect" fill="hold" presetClass="entr" presetID="22" presetSubtype="8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3500"/>
                            </p:stCondLst>
                            <p:childTnLst>
                              <p:par>
                                <p:cTn id="37" nodeType="afterEffect" fill="hold" presetClass="entr" presetID="22" presetSubtype="8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6000"/>
                            </p:stCondLst>
                            <p:childTnLst>
                              <p:par>
                                <p:cTn id="41" nodeType="afterEffect" fill="hold" presetClass="entr" presetID="22" presetSubtype="8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" nodeType="afterEffect" fill="hold" presetClass="entr" presetID="22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2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250"/>
                            </p:stCondLst>
                            <p:childTnLst>
                              <p:par>
                                <p:cTn id="54" nodeType="afterEffect" fill="hold" presetClass="entr" presetID="22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AutoShape 2"/>
          <p:cNvCxnSpPr/>
          <p:nvPr/>
        </p:nvCxnSpPr>
        <p:spPr>
          <a:xfrm>
            <a:off x="1810800" y="2336760"/>
            <a:ext cx="2520" cy="5659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Text Box 3"/>
          <p:cNvSpPr/>
          <p:nvPr/>
        </p:nvSpPr>
        <p:spPr>
          <a:xfrm>
            <a:off x="2882880" y="1050840"/>
            <a:ext cx="3218040" cy="8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M&amp;EE Networking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MAIN GROUP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811080" y="2908440"/>
            <a:ext cx="2075040" cy="85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M&amp;EE Networking Gro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ENGINE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451320" y="2908440"/>
            <a:ext cx="2074680" cy="85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M&amp;EE Networking Gro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IN-POSSESSION OPER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097680" y="2908440"/>
            <a:ext cx="2074680" cy="85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M&amp;EE Networking Gro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ON-TRACK MACHINE OPER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AutoShape 10"/>
          <p:cNvCxnSpPr/>
          <p:nvPr/>
        </p:nvCxnSpPr>
        <p:spPr>
          <a:xfrm>
            <a:off x="4454640" y="1908000"/>
            <a:ext cx="2160" cy="9914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AutoShape 16"/>
          <p:cNvCxnSpPr/>
          <p:nvPr/>
        </p:nvCxnSpPr>
        <p:spPr>
          <a:xfrm>
            <a:off x="1765440" y="2362320"/>
            <a:ext cx="535824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64" name="AutoShape 2"/>
          <p:cNvCxnSpPr/>
          <p:nvPr/>
        </p:nvCxnSpPr>
        <p:spPr>
          <a:xfrm>
            <a:off x="7097760" y="2336760"/>
            <a:ext cx="2160" cy="5659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Oval 1"/>
          <p:cNvSpPr/>
          <p:nvPr/>
        </p:nvSpPr>
        <p:spPr>
          <a:xfrm>
            <a:off x="179280" y="981000"/>
            <a:ext cx="8785440" cy="32799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6" name="AutoShape 2"/>
          <p:cNvCxnSpPr/>
          <p:nvPr/>
        </p:nvCxnSpPr>
        <p:spPr>
          <a:xfrm>
            <a:off x="1810800" y="2336760"/>
            <a:ext cx="2520" cy="5659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Text Box 3"/>
          <p:cNvSpPr/>
          <p:nvPr/>
        </p:nvSpPr>
        <p:spPr>
          <a:xfrm>
            <a:off x="2882880" y="1050840"/>
            <a:ext cx="3218040" cy="8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M&amp;EE Networking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MAIN GROUP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811080" y="2908440"/>
            <a:ext cx="2075040" cy="85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M&amp;EE Networking Gro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ENGINE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451320" y="2908440"/>
            <a:ext cx="2074680" cy="85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M&amp;EE Networking Gro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IN-POSSESSION OPER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6097680" y="2908440"/>
            <a:ext cx="2074680" cy="85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M&amp;EE Networking Gro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ON-TRACK MACHINE OPER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7020000" y="4797360"/>
            <a:ext cx="1817640" cy="7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M&amp;EE Networking Gro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OPEN LINE RUNNING SUB GRO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AutoShape 10"/>
          <p:cNvCxnSpPr/>
          <p:nvPr/>
        </p:nvCxnSpPr>
        <p:spPr>
          <a:xfrm>
            <a:off x="4454640" y="1908000"/>
            <a:ext cx="2160" cy="9914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3" name="AutoShape 15"/>
          <p:cNvCxnSpPr>
            <a:endCxn id="71" idx="0"/>
          </p:cNvCxnSpPr>
          <p:nvPr/>
        </p:nvCxnSpPr>
        <p:spPr>
          <a:xfrm>
            <a:off x="7097400" y="3765600"/>
            <a:ext cx="832680" cy="10324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4" name="AutoShape 16"/>
          <p:cNvCxnSpPr/>
          <p:nvPr/>
        </p:nvCxnSpPr>
        <p:spPr>
          <a:xfrm>
            <a:off x="1765440" y="2362320"/>
            <a:ext cx="535824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75" name="AutoShape 2"/>
          <p:cNvCxnSpPr/>
          <p:nvPr/>
        </p:nvCxnSpPr>
        <p:spPr>
          <a:xfrm>
            <a:off x="7097760" y="2336760"/>
            <a:ext cx="2160" cy="5659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76" name="Picture 16" descr=""/>
          <p:cNvPicPr/>
          <p:nvPr/>
        </p:nvPicPr>
        <p:blipFill>
          <a:blip r:embed="rId1"/>
          <a:stretch/>
        </p:blipFill>
        <p:spPr>
          <a:xfrm>
            <a:off x="4788000" y="4797360"/>
            <a:ext cx="1828800" cy="762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2411280" y="4797360"/>
            <a:ext cx="1819440" cy="7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M&amp;EE Networking Gro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LIFTING OPERATIONS SUB GRO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00080" y="4753080"/>
            <a:ext cx="181764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M&amp;EE Networking Gro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PLANT SUB GRO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14"/>
          <p:cNvCxnSpPr>
            <a:endCxn id="77" idx="0"/>
          </p:cNvCxnSpPr>
          <p:nvPr/>
        </p:nvCxnSpPr>
        <p:spPr>
          <a:xfrm flipH="1">
            <a:off x="3320280" y="3762000"/>
            <a:ext cx="1134360" cy="10357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AutoShape 14"/>
          <p:cNvCxnSpPr>
            <a:endCxn id="78" idx="0"/>
          </p:cNvCxnSpPr>
          <p:nvPr/>
        </p:nvCxnSpPr>
        <p:spPr>
          <a:xfrm flipH="1">
            <a:off x="1007640" y="3762360"/>
            <a:ext cx="758160" cy="9914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AutoShape 13"/>
          <p:cNvCxnSpPr/>
          <p:nvPr/>
        </p:nvCxnSpPr>
        <p:spPr>
          <a:xfrm>
            <a:off x="4606560" y="3762000"/>
            <a:ext cx="1096200" cy="10357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AutoShape 14"/>
          <p:cNvCxnSpPr>
            <a:stCxn id="68" idx="2"/>
            <a:endCxn id="77" idx="0"/>
          </p:cNvCxnSpPr>
          <p:nvPr/>
        </p:nvCxnSpPr>
        <p:spPr>
          <a:xfrm>
            <a:off x="1849320" y="3765600"/>
            <a:ext cx="1472400" cy="10324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mjames\AppData\Local\Microsoft\Windows\Temporary Internet Files\Content.IE5\68XQTL3S\MM910001094[1].gif"/>
          <p:cNvPicPr/>
          <p:nvPr/>
        </p:nvPicPr>
        <p:blipFill>
          <a:blip r:embed="rId1"/>
          <a:stretch/>
        </p:blipFill>
        <p:spPr>
          <a:xfrm>
            <a:off x="3583080" y="477720"/>
            <a:ext cx="3076560" cy="4535640"/>
          </a:xfrm>
          <a:prstGeom prst="rect">
            <a:avLst/>
          </a:prstGeom>
          <a:ln w="0">
            <a:noFill/>
          </a:ln>
        </p:spPr>
      </p:pic>
      <p:sp>
        <p:nvSpPr>
          <p:cNvPr id="84" name="Cloud Callout 2"/>
          <p:cNvSpPr/>
          <p:nvPr/>
        </p:nvSpPr>
        <p:spPr>
          <a:xfrm>
            <a:off x="6443640" y="138240"/>
            <a:ext cx="2658960" cy="1706400"/>
          </a:xfrm>
          <a:prstGeom prst="cloudCallout">
            <a:avLst>
              <a:gd name="adj1" fmla="val -74490"/>
              <a:gd name="adj2" fmla="val 50180"/>
            </a:avLst>
          </a:prstGeom>
          <a:solidFill>
            <a:srgbClr val="d2d2f4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6692760" y="40464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Meet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triped Right Arrow 1"/>
          <p:cNvSpPr/>
          <p:nvPr/>
        </p:nvSpPr>
        <p:spPr>
          <a:xfrm rot="13780800">
            <a:off x="2655000" y="943200"/>
            <a:ext cx="1709640" cy="936720"/>
          </a:xfrm>
          <a:custGeom>
            <a:avLst/>
            <a:gdLst>
              <a:gd name="textAreaLeft" fmla="*/ 146160 w 1709640"/>
              <a:gd name="textAreaRight" fmla="*/ 1475640 w 1709640"/>
              <a:gd name="textAreaTop" fmla="*/ 234000 h 936720"/>
              <a:gd name="textAreaBottom" fmla="*/ 702720 h 936720"/>
            </a:gdLst>
            <a:ahLst/>
            <a:rect l="textAreaLeft" t="textAreaTop" r="textAreaRight" b="textAreaBottom"/>
            <a:pathLst>
              <a:path w="1709737" h="936625">
                <a:moveTo>
                  <a:pt x="0" y="234156"/>
                </a:moveTo>
                <a:lnTo>
                  <a:pt x="29270" y="234156"/>
                </a:lnTo>
                <a:lnTo>
                  <a:pt x="29270" y="702469"/>
                </a:lnTo>
                <a:lnTo>
                  <a:pt x="0" y="702469"/>
                </a:lnTo>
                <a:close/>
                <a:moveTo>
                  <a:pt x="58539" y="234156"/>
                </a:moveTo>
                <a:lnTo>
                  <a:pt x="117078" y="234156"/>
                </a:lnTo>
                <a:lnTo>
                  <a:pt x="117078" y="702469"/>
                </a:lnTo>
                <a:lnTo>
                  <a:pt x="58539" y="702469"/>
                </a:lnTo>
                <a:close/>
                <a:moveTo>
                  <a:pt x="146348" y="234156"/>
                </a:moveTo>
                <a:lnTo>
                  <a:pt x="1241425" y="234156"/>
                </a:lnTo>
                <a:lnTo>
                  <a:pt x="1241425" y="0"/>
                </a:lnTo>
                <a:lnTo>
                  <a:pt x="1709737" y="468313"/>
                </a:lnTo>
                <a:lnTo>
                  <a:pt x="1241425" y="936625"/>
                </a:lnTo>
                <a:lnTo>
                  <a:pt x="1241425" y="702469"/>
                </a:lnTo>
                <a:lnTo>
                  <a:pt x="146348" y="702469"/>
                </a:lnTo>
                <a:close/>
              </a:path>
            </a:pathLst>
          </a:custGeom>
          <a:solidFill>
            <a:srgbClr val="85ffe0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Hexagon 5"/>
          <p:cNvSpPr/>
          <p:nvPr/>
        </p:nvSpPr>
        <p:spPr>
          <a:xfrm>
            <a:off x="343080" y="122400"/>
            <a:ext cx="2589120" cy="89028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85ffe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755640" y="27288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CO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iped Right Arrow 9"/>
          <p:cNvSpPr/>
          <p:nvPr/>
        </p:nvSpPr>
        <p:spPr>
          <a:xfrm rot="2623800">
            <a:off x="6528960" y="4049280"/>
            <a:ext cx="1709640" cy="935280"/>
          </a:xfrm>
          <a:custGeom>
            <a:avLst/>
            <a:gdLst>
              <a:gd name="textAreaLeft" fmla="*/ 145800 w 1709640"/>
              <a:gd name="textAreaRight" fmla="*/ 1476000 w 1709640"/>
              <a:gd name="textAreaTop" fmla="*/ 233640 h 935280"/>
              <a:gd name="textAreaBottom" fmla="*/ 701640 h 935280"/>
            </a:gdLst>
            <a:ahLst/>
            <a:rect l="textAreaLeft" t="textAreaTop" r="textAreaRight" b="textAreaBottom"/>
            <a:pathLst>
              <a:path w="1709737" h="935037">
                <a:moveTo>
                  <a:pt x="0" y="233759"/>
                </a:moveTo>
                <a:lnTo>
                  <a:pt x="29220" y="233759"/>
                </a:lnTo>
                <a:lnTo>
                  <a:pt x="29220" y="701278"/>
                </a:lnTo>
                <a:lnTo>
                  <a:pt x="0" y="701278"/>
                </a:lnTo>
                <a:close/>
                <a:moveTo>
                  <a:pt x="58440" y="233759"/>
                </a:moveTo>
                <a:lnTo>
                  <a:pt x="116880" y="233759"/>
                </a:lnTo>
                <a:lnTo>
                  <a:pt x="116880" y="701278"/>
                </a:lnTo>
                <a:lnTo>
                  <a:pt x="58440" y="701278"/>
                </a:lnTo>
                <a:close/>
                <a:moveTo>
                  <a:pt x="146100" y="233759"/>
                </a:moveTo>
                <a:lnTo>
                  <a:pt x="1242219" y="233759"/>
                </a:lnTo>
                <a:lnTo>
                  <a:pt x="1242219" y="0"/>
                </a:lnTo>
                <a:lnTo>
                  <a:pt x="1709737" y="467519"/>
                </a:lnTo>
                <a:lnTo>
                  <a:pt x="1242219" y="935037"/>
                </a:lnTo>
                <a:lnTo>
                  <a:pt x="1242219" y="701278"/>
                </a:lnTo>
                <a:lnTo>
                  <a:pt x="146100" y="701278"/>
                </a:lnTo>
                <a:close/>
              </a:path>
            </a:pathLst>
          </a:custGeom>
          <a:solidFill>
            <a:srgbClr val="85ffe0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Hexagon 10"/>
          <p:cNvSpPr/>
          <p:nvPr/>
        </p:nvSpPr>
        <p:spPr>
          <a:xfrm>
            <a:off x="6227640" y="5288040"/>
            <a:ext cx="2916360" cy="15256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85ffe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6566040" y="5388120"/>
            <a:ext cx="241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Industry Expert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 repeatCount="100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2411280" y="2781360"/>
            <a:ext cx="45370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&amp;EE Net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68360" y="620640"/>
            <a:ext cx="2374920" cy="8254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SSB Standards Committ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3276720" y="620640"/>
            <a:ext cx="237492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6084720" y="620640"/>
            <a:ext cx="2374920" cy="8254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N working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250920" y="2781360"/>
            <a:ext cx="129672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7667640" y="2852640"/>
            <a:ext cx="129708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95280" y="4005360"/>
            <a:ext cx="129708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S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7093080" y="4076640"/>
            <a:ext cx="15112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S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6659640" y="1446120"/>
            <a:ext cx="2376360" cy="8254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SI working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3924360" y="5732640"/>
            <a:ext cx="129528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1403280" y="4941720"/>
            <a:ext cx="2160720" cy="8254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nt us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5940360" y="4941720"/>
            <a:ext cx="1656000" cy="8254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arious 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Straight Arrow Connector 15"/>
          <p:cNvCxnSpPr>
            <a:stCxn id="92" idx="0"/>
            <a:endCxn id="93" idx="2"/>
          </p:cNvCxnSpPr>
          <p:nvPr/>
        </p:nvCxnSpPr>
        <p:spPr>
          <a:xfrm flipH="1" flipV="1">
            <a:off x="1654920" y="1450440"/>
            <a:ext cx="3025080" cy="13312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05" name="Straight Arrow Connector 17"/>
          <p:cNvCxnSpPr>
            <a:stCxn id="92" idx="0"/>
            <a:endCxn id="94" idx="2"/>
          </p:cNvCxnSpPr>
          <p:nvPr/>
        </p:nvCxnSpPr>
        <p:spPr>
          <a:xfrm flipH="1" flipV="1">
            <a:off x="4463640" y="1081800"/>
            <a:ext cx="216720" cy="16995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06" name="Straight Arrow Connector 19"/>
          <p:cNvCxnSpPr>
            <a:stCxn id="92" idx="0"/>
            <a:endCxn id="95" idx="1"/>
          </p:cNvCxnSpPr>
          <p:nvPr/>
        </p:nvCxnSpPr>
        <p:spPr>
          <a:xfrm flipV="1">
            <a:off x="4680000" y="1036440"/>
            <a:ext cx="1405440" cy="17452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07" name="Straight Arrow Connector 21"/>
          <p:cNvCxnSpPr>
            <a:stCxn id="92" idx="0"/>
            <a:endCxn id="100" idx="1"/>
          </p:cNvCxnSpPr>
          <p:nvPr/>
        </p:nvCxnSpPr>
        <p:spPr>
          <a:xfrm flipV="1">
            <a:off x="4679640" y="1861560"/>
            <a:ext cx="1980360" cy="91980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08" name="Straight Arrow Connector 27"/>
          <p:cNvCxnSpPr>
            <a:stCxn id="92" idx="3"/>
            <a:endCxn id="97" idx="1"/>
          </p:cNvCxnSpPr>
          <p:nvPr/>
        </p:nvCxnSpPr>
        <p:spPr>
          <a:xfrm>
            <a:off x="6948360" y="3011040"/>
            <a:ext cx="720000" cy="7380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09" name="Straight Arrow Connector 29"/>
          <p:cNvCxnSpPr>
            <a:stCxn id="92" idx="1"/>
            <a:endCxn id="96" idx="3"/>
          </p:cNvCxnSpPr>
          <p:nvPr/>
        </p:nvCxnSpPr>
        <p:spPr>
          <a:xfrm flipH="1">
            <a:off x="1546920" y="3011040"/>
            <a:ext cx="864360" cy="10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10" name="Straight Arrow Connector 31"/>
          <p:cNvCxnSpPr>
            <a:stCxn id="92" idx="2"/>
            <a:endCxn id="98" idx="3"/>
          </p:cNvCxnSpPr>
          <p:nvPr/>
        </p:nvCxnSpPr>
        <p:spPr>
          <a:xfrm flipH="1">
            <a:off x="1691640" y="3243240"/>
            <a:ext cx="2988360" cy="9928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11" name="Straight Arrow Connector 33"/>
          <p:cNvCxnSpPr>
            <a:stCxn id="92" idx="2"/>
            <a:endCxn id="102" idx="0"/>
          </p:cNvCxnSpPr>
          <p:nvPr/>
        </p:nvCxnSpPr>
        <p:spPr>
          <a:xfrm flipH="1">
            <a:off x="2484000" y="3243240"/>
            <a:ext cx="2196000" cy="169920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12" name="Straight Arrow Connector 35"/>
          <p:cNvCxnSpPr>
            <a:stCxn id="92" idx="2"/>
            <a:endCxn id="101" idx="0"/>
          </p:cNvCxnSpPr>
          <p:nvPr/>
        </p:nvCxnSpPr>
        <p:spPr>
          <a:xfrm flipH="1">
            <a:off x="4571640" y="3242880"/>
            <a:ext cx="108720" cy="249012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13" name="Straight Arrow Connector 39"/>
          <p:cNvCxnSpPr>
            <a:stCxn id="92" idx="2"/>
            <a:endCxn id="103" idx="0"/>
          </p:cNvCxnSpPr>
          <p:nvPr/>
        </p:nvCxnSpPr>
        <p:spPr>
          <a:xfrm>
            <a:off x="4679640" y="3243240"/>
            <a:ext cx="2088360" cy="169920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14" name="Straight Arrow Connector 41"/>
          <p:cNvCxnSpPr>
            <a:stCxn id="92" idx="2"/>
            <a:endCxn id="99" idx="1"/>
          </p:cNvCxnSpPr>
          <p:nvPr/>
        </p:nvCxnSpPr>
        <p:spPr>
          <a:xfrm>
            <a:off x="4679640" y="3242880"/>
            <a:ext cx="2413800" cy="10659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500"/>
                            </p:stCondLst>
                            <p:childTnLst>
                              <p:par>
                                <p:cTn id="2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500"/>
                            </p:stCondLst>
                            <p:childTnLst>
                              <p:par>
                                <p:cTn id="2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0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500"/>
                            </p:stCondLst>
                            <p:childTnLst>
                              <p:par>
                                <p:cTn id="2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00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500"/>
                            </p:stCondLst>
                            <p:childTnLst>
                              <p:par>
                                <p:cTn id="2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Users\mjames\AppData\Local\Microsoft\Windows\Temporary Internet Files\Content.IE5\68XQTL3S\MM910001094[1].gif"/>
          <p:cNvPicPr/>
          <p:nvPr/>
        </p:nvPicPr>
        <p:blipFill>
          <a:blip r:embed="rId1"/>
          <a:stretch/>
        </p:blipFill>
        <p:spPr>
          <a:xfrm>
            <a:off x="3583080" y="477720"/>
            <a:ext cx="3076560" cy="4535640"/>
          </a:xfrm>
          <a:prstGeom prst="rect">
            <a:avLst/>
          </a:prstGeom>
          <a:ln w="0">
            <a:noFill/>
          </a:ln>
        </p:spPr>
      </p:pic>
      <p:sp>
        <p:nvSpPr>
          <p:cNvPr id="116" name="Cloud Callout 2"/>
          <p:cNvSpPr/>
          <p:nvPr/>
        </p:nvSpPr>
        <p:spPr>
          <a:xfrm>
            <a:off x="6443640" y="138240"/>
            <a:ext cx="2658960" cy="1706400"/>
          </a:xfrm>
          <a:prstGeom prst="cloudCallout">
            <a:avLst>
              <a:gd name="adj1" fmla="val -74490"/>
              <a:gd name="adj2" fmla="val 50180"/>
            </a:avLst>
          </a:prstGeom>
          <a:solidFill>
            <a:srgbClr val="d2d2f4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6692760" y="40464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Meet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triped Right Arrow 1"/>
          <p:cNvSpPr/>
          <p:nvPr/>
        </p:nvSpPr>
        <p:spPr>
          <a:xfrm rot="13780800">
            <a:off x="2655000" y="943200"/>
            <a:ext cx="1709640" cy="936720"/>
          </a:xfrm>
          <a:custGeom>
            <a:avLst/>
            <a:gdLst>
              <a:gd name="textAreaLeft" fmla="*/ 146160 w 1709640"/>
              <a:gd name="textAreaRight" fmla="*/ 1475640 w 1709640"/>
              <a:gd name="textAreaTop" fmla="*/ 234000 h 936720"/>
              <a:gd name="textAreaBottom" fmla="*/ 702720 h 936720"/>
            </a:gdLst>
            <a:ahLst/>
            <a:rect l="textAreaLeft" t="textAreaTop" r="textAreaRight" b="textAreaBottom"/>
            <a:pathLst>
              <a:path w="1709737" h="936625">
                <a:moveTo>
                  <a:pt x="0" y="234156"/>
                </a:moveTo>
                <a:lnTo>
                  <a:pt x="29270" y="234156"/>
                </a:lnTo>
                <a:lnTo>
                  <a:pt x="29270" y="702469"/>
                </a:lnTo>
                <a:lnTo>
                  <a:pt x="0" y="702469"/>
                </a:lnTo>
                <a:close/>
                <a:moveTo>
                  <a:pt x="58539" y="234156"/>
                </a:moveTo>
                <a:lnTo>
                  <a:pt x="117078" y="234156"/>
                </a:lnTo>
                <a:lnTo>
                  <a:pt x="117078" y="702469"/>
                </a:lnTo>
                <a:lnTo>
                  <a:pt x="58539" y="702469"/>
                </a:lnTo>
                <a:close/>
                <a:moveTo>
                  <a:pt x="146348" y="234156"/>
                </a:moveTo>
                <a:lnTo>
                  <a:pt x="1241425" y="234156"/>
                </a:lnTo>
                <a:lnTo>
                  <a:pt x="1241425" y="0"/>
                </a:lnTo>
                <a:lnTo>
                  <a:pt x="1709737" y="468313"/>
                </a:lnTo>
                <a:lnTo>
                  <a:pt x="1241425" y="936625"/>
                </a:lnTo>
                <a:lnTo>
                  <a:pt x="1241425" y="702469"/>
                </a:lnTo>
                <a:lnTo>
                  <a:pt x="146348" y="702469"/>
                </a:lnTo>
                <a:close/>
              </a:path>
            </a:pathLst>
          </a:custGeom>
          <a:solidFill>
            <a:srgbClr val="85ffe0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Hexagon 5"/>
          <p:cNvSpPr/>
          <p:nvPr/>
        </p:nvSpPr>
        <p:spPr>
          <a:xfrm>
            <a:off x="343080" y="122400"/>
            <a:ext cx="2589120" cy="89028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85ffe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755640" y="27288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CO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Hexagon 10"/>
          <p:cNvSpPr/>
          <p:nvPr/>
        </p:nvSpPr>
        <p:spPr>
          <a:xfrm>
            <a:off x="6227640" y="5288040"/>
            <a:ext cx="2916360" cy="15256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85ffe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6566040" y="5388120"/>
            <a:ext cx="241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Industry Expert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triped Right Arrow 20"/>
          <p:cNvSpPr/>
          <p:nvPr/>
        </p:nvSpPr>
        <p:spPr>
          <a:xfrm rot="10800000">
            <a:off x="4211280" y="5660640"/>
            <a:ext cx="1709640" cy="934920"/>
          </a:xfrm>
          <a:custGeom>
            <a:avLst/>
            <a:gdLst>
              <a:gd name="textAreaLeft" fmla="*/ 145800 w 1709640"/>
              <a:gd name="textAreaRight" fmla="*/ 1476000 w 170964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1709737" h="935038">
                <a:moveTo>
                  <a:pt x="0" y="233760"/>
                </a:moveTo>
                <a:lnTo>
                  <a:pt x="29220" y="233760"/>
                </a:lnTo>
                <a:lnTo>
                  <a:pt x="29220" y="701279"/>
                </a:lnTo>
                <a:lnTo>
                  <a:pt x="0" y="701279"/>
                </a:lnTo>
                <a:close/>
                <a:moveTo>
                  <a:pt x="58440" y="233760"/>
                </a:moveTo>
                <a:lnTo>
                  <a:pt x="116880" y="233760"/>
                </a:lnTo>
                <a:lnTo>
                  <a:pt x="116880" y="701279"/>
                </a:lnTo>
                <a:lnTo>
                  <a:pt x="58440" y="701279"/>
                </a:lnTo>
                <a:close/>
                <a:moveTo>
                  <a:pt x="146100" y="233760"/>
                </a:moveTo>
                <a:lnTo>
                  <a:pt x="1242218" y="233760"/>
                </a:lnTo>
                <a:lnTo>
                  <a:pt x="1242218" y="0"/>
                </a:lnTo>
                <a:lnTo>
                  <a:pt x="1709737" y="467519"/>
                </a:lnTo>
                <a:lnTo>
                  <a:pt x="1242218" y="935038"/>
                </a:lnTo>
                <a:lnTo>
                  <a:pt x="1242218" y="701279"/>
                </a:lnTo>
                <a:lnTo>
                  <a:pt x="146100" y="701279"/>
                </a:lnTo>
                <a:close/>
              </a:path>
            </a:pathLst>
          </a:custGeom>
          <a:solidFill>
            <a:srgbClr val="85ffe0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Hexagon 21"/>
          <p:cNvSpPr/>
          <p:nvPr/>
        </p:nvSpPr>
        <p:spPr>
          <a:xfrm>
            <a:off x="755640" y="5288040"/>
            <a:ext cx="2916360" cy="15256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85ffe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22"/>
          <p:cNvSpPr/>
          <p:nvPr/>
        </p:nvSpPr>
        <p:spPr>
          <a:xfrm>
            <a:off x="539640" y="5157720"/>
            <a:ext cx="331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afety Improvement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triped Right Arrow 12"/>
          <p:cNvSpPr/>
          <p:nvPr/>
        </p:nvSpPr>
        <p:spPr>
          <a:xfrm rot="2623800">
            <a:off x="6528960" y="4049280"/>
            <a:ext cx="1709640" cy="935280"/>
          </a:xfrm>
          <a:custGeom>
            <a:avLst/>
            <a:gdLst>
              <a:gd name="textAreaLeft" fmla="*/ 145800 w 1709640"/>
              <a:gd name="textAreaRight" fmla="*/ 1476000 w 1709640"/>
              <a:gd name="textAreaTop" fmla="*/ 233640 h 935280"/>
              <a:gd name="textAreaBottom" fmla="*/ 701640 h 935280"/>
            </a:gdLst>
            <a:ahLst/>
            <a:rect l="textAreaLeft" t="textAreaTop" r="textAreaRight" b="textAreaBottom"/>
            <a:pathLst>
              <a:path w="1709737" h="935037">
                <a:moveTo>
                  <a:pt x="0" y="233759"/>
                </a:moveTo>
                <a:lnTo>
                  <a:pt x="29220" y="233759"/>
                </a:lnTo>
                <a:lnTo>
                  <a:pt x="29220" y="701278"/>
                </a:lnTo>
                <a:lnTo>
                  <a:pt x="0" y="701278"/>
                </a:lnTo>
                <a:close/>
                <a:moveTo>
                  <a:pt x="58440" y="233759"/>
                </a:moveTo>
                <a:lnTo>
                  <a:pt x="116880" y="233759"/>
                </a:lnTo>
                <a:lnTo>
                  <a:pt x="116880" y="701278"/>
                </a:lnTo>
                <a:lnTo>
                  <a:pt x="58440" y="701278"/>
                </a:lnTo>
                <a:close/>
                <a:moveTo>
                  <a:pt x="146100" y="233759"/>
                </a:moveTo>
                <a:lnTo>
                  <a:pt x="1242219" y="233759"/>
                </a:lnTo>
                <a:lnTo>
                  <a:pt x="1242219" y="0"/>
                </a:lnTo>
                <a:lnTo>
                  <a:pt x="1709737" y="467519"/>
                </a:lnTo>
                <a:lnTo>
                  <a:pt x="1242219" y="935037"/>
                </a:lnTo>
                <a:lnTo>
                  <a:pt x="1242219" y="701278"/>
                </a:lnTo>
                <a:lnTo>
                  <a:pt x="146100" y="701278"/>
                </a:lnTo>
                <a:close/>
              </a:path>
            </a:pathLst>
          </a:custGeom>
          <a:solidFill>
            <a:srgbClr val="85ffe0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1547640" y="260280"/>
            <a:ext cx="4824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2771640" y="907920"/>
            <a:ext cx="3961080" cy="5805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7"/>
          <p:cNvSpPr/>
          <p:nvPr/>
        </p:nvSpPr>
        <p:spPr>
          <a:xfrm>
            <a:off x="4284720" y="549360"/>
            <a:ext cx="36003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Integrated Plan for Continuous Safety Improv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684360" y="5877000"/>
            <a:ext cx="75438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M&amp;EE Networking Gro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4481640" y="-13824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4481640" y="832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1"/>
          <p:cNvSpPr/>
          <p:nvPr/>
        </p:nvSpPr>
        <p:spPr>
          <a:xfrm>
            <a:off x="4481640" y="786456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34920" y="44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M&amp;EE Group has developed this plan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755640" y="58104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 and maintain 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mon to al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op 10 risk profile associated with OTM/O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14:17:23Z</dcterms:created>
  <dc:creator>mjames</dc:creator>
  <dc:description/>
  <dc:language>en-US</dc:language>
  <cp:lastModifiedBy>Michael James</cp:lastModifiedBy>
  <dcterms:modified xsi:type="dcterms:W3CDTF">2016-06-11T14:40:13Z</dcterms:modified>
  <cp:revision>60</cp:revision>
  <dc:subject/>
  <dc:title>PowerPoint Presentation</dc:title>
</cp:coreProperties>
</file>