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30BA-38E3-4C2E-A1E4-F2E52296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BB314-BCD0-4943-9579-A3CB4E26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F18DE-3F96-4AC8-83DB-E67CBBFE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00E23-C8CD-4C57-B4DC-F7486717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E2001-C236-4389-AB82-A6DECC0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64DBC-D085-4F39-99B7-312FDBC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2AC60-725D-4C8B-B4E0-EF463AEE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CA9CD-229E-4BCF-BE9B-4909ADDE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848B-8EDB-4256-98BD-E17150E1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57C8-F366-4274-9469-9EEF1CB1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7425-4783-41D2-8207-A4840CBF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BF43D-85E8-4D03-955A-0F0BE718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892BC-4CF9-444C-9C67-4C6DDCAE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0C93D-CD0C-48C5-814E-5C08FAD4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09627-805A-4D62-98D5-BBED732C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DA016-2E02-4886-AE63-E3D985F6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CD894-3432-405F-89B0-2CCDFF1C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649C4-DC82-45BF-9F80-74369251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8C12B-471B-4CE1-ACA5-8176CE9F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7321-552F-4590-BF06-D1F8F1D6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4FB49-EE19-4097-8260-96446773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BCBC2-FAE2-4654-8EB8-C54B8647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635BF-F67F-4F27-9B67-D9D0FA28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91F9E-1E98-4DC9-B37D-0FEBA938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44F3B-3741-4307-AB5A-903BBCDD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E30B3-6648-40AA-AC05-D9E9C9E1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A6995-67C5-4BC1-9652-BC4B302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8FE33-3D94-40F3-8294-3DCB7A0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A1416-8E10-4CE8-93AC-C685478E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0FC51-F89E-4268-9CAA-67E3EB32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715-E497-4770-A93C-DBD8C366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6A7A6-31F0-4576-A918-556088A9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51B69-8798-4CA8-9FFF-AC8065BB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5C62C-2CF8-4286-ADD8-E19E0F3C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521B6-6965-49E9-BF4D-5B187EB4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984D7-82DA-4991-9ADE-22EBC590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0C420-743B-4569-93AD-F01B483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E6040-F940-4F2F-900F-C474269E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0C51C-2197-49AA-8BDC-42ED81D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F5511-BFAB-4781-898C-2574FA8F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6999A-E06F-48E1-A8FC-397A4762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8E8-6DC7-447D-A38F-7FF4EB2D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EE7FA-D8A2-4B4F-B028-638BDEA6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630D5-E7A1-4EBE-A63F-F5372EC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7B0B5-B947-4C34-8D95-CD0041C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16392-70D6-4320-80BD-A0A5887C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C6FC4-EBB0-4FA2-A630-E20C14EA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A7675-2367-4AB2-9F23-741D791F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46425-FB8F-4EEE-9C9A-D548015F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6E619-3DF8-4F63-B2AA-0CCCA9DD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F5953-E6D3-4EDB-8CEC-5FE5F6F5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E5789-A09A-4368-A8A2-7D690123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DE2-90A6-4E62-AC69-221F7A74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09F9A-A5A2-4EDE-BE78-998D0499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953DE-43EC-4107-BF91-3C8F368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DC6B1-D2DD-4B62-A94C-81412F45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1B022-3BEE-4F6A-8DE2-0661AE0E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6B1BF-B993-488D-B1F3-5B1A354A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FD168-5417-4DF5-A506-218084A0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E473F-8B59-4D57-8411-2F188CEA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31B88-1A0B-4208-AA50-B1D4CB5A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5774E-9343-4F12-8152-A60893B2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AFAE2-1CEA-49D8-8E32-C680F405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187-4AFE-471A-A3FD-64F841AF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23BA0-1E3E-47B6-8FF8-A2D9DBE5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7B07B-4D18-4C4D-A4A0-BC9173CC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FA0EF-CA72-4EF1-9AC7-09EA40AD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E6827-A20D-4397-A5FA-794D4B9F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104F9-8E7D-4567-8F66-CD90452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700D2-EF77-44EA-9DB7-E436B51C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C3262-1187-45F0-8B7B-072CC11F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39DE0-EFC5-42CC-8043-010182CA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41202-D2B0-4C97-8B85-718E8030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879-F2E0-4AE2-B0F8-77754757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D36-52A8-4D48-B52C-0F71792F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884-4259-4D92-A4AC-9B27884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F57-30CC-4212-9099-B64537E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B4F-7A54-4ADF-BA10-55A6388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CAF-521C-4169-A964-F1822AA6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54B-88D2-47F8-A410-4027A409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8AF-DD28-497A-989F-0C1DFAE8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828F-6C5B-4712-A8E1-0AAA5C83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ADC3-B201-4632-94F5-FC8797F7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D2B9-4850-4906-8691-178058D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B886-5852-4C6D-B0A9-6CE4ADF6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55B9-2169-4981-97FD-734B6719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4FA9-95A3-4051-968D-4CAD29DA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7937-72F8-46BA-B6FA-C591F44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EC5F-F2F9-40F2-8AEF-8DA5465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69E0-CEC9-40F8-882F-EB1B650F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1691-C95A-4139-B42F-1AB20D13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891B-C954-42E5-9BA7-3F245A16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6FC8-DA64-4510-9111-E0B60DB8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642F-9AAC-47A2-B78C-7DFB477E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CFA6-DBAD-4C45-AB4F-74F7414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143B-7317-4615-9DD2-1DBCF8F9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4BFB-E319-4FC2-9F91-2F150F81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404B-9247-4D30-9FE7-501EA987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2F3B-3378-433C-827D-3EEBDF78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35A7-B146-4E6E-B0CC-F267E6D1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7245-A1A3-42F5-B303-F37BE9D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985D-4385-41DA-BE7E-ADA5BF41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5C636-6F9A-4099-82B6-369ADBA5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5FE9-80D1-4659-AE37-6AC35C87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DDEC-5851-4E40-A174-6DC2C198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500AD-C43F-41D7-9E5D-DC3B6A3C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1A0C-FD92-4B8A-B65A-6E85A690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DA74-CDE1-4EC5-88C7-25397407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D14B-887D-4D42-AC34-1D1F8DC4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F48A2-A647-4C01-8000-D9AC6DFE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6F38-051C-4F79-9310-86962EFE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8AE3-EA82-4D3D-B733-2EB8F30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E83A5-C230-43B1-B3E6-DAFF264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7F60E-7C03-407D-8EC7-1A6FA49C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89FCD-EFB8-4BA8-9C2C-58128C24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6C7E-36B9-4CFA-943D-9B520E9E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6114-2F6F-46BC-9A10-177A1AEC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07D02-13BD-409A-8A6C-1E3000CE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FF50E-77A1-41F9-B5E2-7C11A571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53ECB-4E50-46BA-853B-DE601A39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5C814-0C74-4848-B9AF-6F963A80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86DB-2EFF-4FC8-ACEA-7A0152A0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0C2A-E332-4AE1-A35D-452AA55C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9CBE-3A24-4066-B195-C1AB623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EC659-DAEE-4563-88F5-23C79B7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102FB-FB55-4E5F-BDA2-4A47C8D6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6F1EA-F6C3-4FE9-B14E-6F621F8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2CBF-3CCF-45AF-8AE6-C4C40C2D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1F9F-9178-4B10-8C5C-6111BFA7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D397C-43F2-4615-96E5-01A540E7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D6D3-9FF6-430E-B97A-3EE32FF9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D972C-094F-4124-93F7-3B40DE79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27666-1084-4C98-A8C5-27E0B254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7011-01B0-4B2C-AACD-D992B1AA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BFE67-A5AF-4C38-8605-5B3E9D2C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8C2F4-E9D5-4407-A7CB-78FF5B66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062FF-1FF7-4908-987D-22B98056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BBE5-BCA3-4BC5-9A1A-C1B886BB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898200" y="2822760"/>
            <a:ext cx="766764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A6C01-1142-440E-B29F-374D4EF4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27240" y="1058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820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827240" y="2822760"/>
            <a:ext cx="37414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68B7B-114E-4FF6-9A0B-2BEB6FE2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49092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83640" y="1058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89820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49092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83640" y="2822760"/>
            <a:ext cx="2468880" cy="1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65B3F-7F10-419C-9CF1-DA86E188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7F14A-2FC3-4DF1-B366-447BE852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8D565-D8CA-41DE-8DD1-22A302F7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DC466-EA7E-4981-8EAE-61C13A80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VolkerRail Powerpoint Slide UK 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898560" y="521820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404F-8094-4F1B-8F2D-4D495915E8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A37C-1910-49F8-9470-FCFE47394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08B-257C-4AB4-85AD-A660EC859A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9286-46DF-4DA7-8A20-7C07017E8B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0F4F-D09C-4B16-8D6D-B1C4ADA269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9A8B-6566-4A12-B3A8-14C2462B38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VolkerRail Powerpoint Title UK 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7" name="Rectangle 16"/>
          <p:cNvSpPr/>
          <p:nvPr/>
        </p:nvSpPr>
        <p:spPr>
          <a:xfrm>
            <a:off x="324000" y="4292640"/>
            <a:ext cx="4895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250920" y="4365720"/>
            <a:ext cx="48974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2" descr="VolkerRail"/>
          <p:cNvPicPr/>
          <p:nvPr/>
        </p:nvPicPr>
        <p:blipFill>
          <a:blip r:embed="rId3"/>
          <a:stretch/>
        </p:blipFill>
        <p:spPr>
          <a:xfrm>
            <a:off x="460440" y="3994200"/>
            <a:ext cx="5902200" cy="747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98200" y="1058760"/>
            <a:ext cx="76676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F32D-E108-44AC-B1A2-C94A397515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4C68-80A5-4160-B759-40E86A1A67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F971-C651-4C94-AB35-B8BF3A3BD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1613-9842-4CBA-B3E8-EF11B04CB3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ADDC-D13D-4B83-B0E4-A8EB76B94E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51"/>
          <p:cNvSpPr/>
          <p:nvPr/>
        </p:nvSpPr>
        <p:spPr>
          <a:xfrm>
            <a:off x="1403280" y="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masthead-cable-bottom"/>
          <p:cNvPicPr/>
          <p:nvPr/>
        </p:nvPicPr>
        <p:blipFill>
          <a:blip r:embed="rId2"/>
          <a:stretch/>
        </p:blipFill>
        <p:spPr>
          <a:xfrm>
            <a:off x="1187280" y="549360"/>
            <a:ext cx="7956720" cy="76032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1"/>
          <p:cNvSpPr/>
          <p:nvPr/>
        </p:nvSpPr>
        <p:spPr>
          <a:xfrm>
            <a:off x="1403280" y="189000"/>
            <a:ext cx="7740720" cy="457200"/>
          </a:xfrm>
          <a:prstGeom prst="rect">
            <a:avLst/>
          </a:prstGeom>
          <a:solidFill>
            <a:srgbClr val="427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189000"/>
            <a:ext cx="648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39640" y="1628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1979640" y="21337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692360" y="11592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8" descr="REDG"/>
          <p:cNvPicPr/>
          <p:nvPr/>
        </p:nvPicPr>
        <p:blipFill>
          <a:blip r:embed="rId3"/>
          <a:stretch/>
        </p:blipFill>
        <p:spPr>
          <a:xfrm>
            <a:off x="0" y="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5CC6-C596-4FA5-9A74-75722FFDFC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8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765000" y="620280"/>
            <a:ext cx="79106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755640" y="522936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esentation To M &amp; EE Plenar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3" descr=""/>
          <p:cNvPicPr/>
          <p:nvPr/>
        </p:nvPicPr>
        <p:blipFill>
          <a:blip r:embed="rId1"/>
          <a:stretch/>
        </p:blipFill>
        <p:spPr>
          <a:xfrm>
            <a:off x="0" y="6480"/>
            <a:ext cx="9167760" cy="685152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2"/>
          <p:cNvSpPr/>
          <p:nvPr/>
        </p:nvSpPr>
        <p:spPr>
          <a:xfrm>
            <a:off x="971640" y="549360"/>
            <a:ext cx="705636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In Possession Only Sub Group (IPOSG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Review of the Groups Activiti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June 2015 to June 2016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an Rawling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2"/>
          <a:stretch/>
        </p:blipFill>
        <p:spPr>
          <a:xfrm>
            <a:off x="250920" y="262080"/>
            <a:ext cx="34574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447840" y="322200"/>
            <a:ext cx="8372160" cy="718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k Pendle (Chairma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Wadh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ry Mil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ard Shar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Independent Consultant Andy Cra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an Rawl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 Mil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an Morg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755640" y="522936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omposition of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447840" y="1865160"/>
            <a:ext cx="37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5148360" y="371520"/>
            <a:ext cx="2519280" cy="4176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" descr=""/>
          <p:cNvPicPr/>
          <p:nvPr/>
        </p:nvPicPr>
        <p:blipFill>
          <a:blip r:embed="rId2"/>
          <a:stretch/>
        </p:blipFill>
        <p:spPr>
          <a:xfrm>
            <a:off x="5265720" y="844560"/>
            <a:ext cx="1260360" cy="5587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"/>
          <p:cNvPicPr/>
          <p:nvPr/>
        </p:nvPicPr>
        <p:blipFill>
          <a:blip r:embed="rId3"/>
          <a:stretch/>
        </p:blipFill>
        <p:spPr>
          <a:xfrm>
            <a:off x="5264280" y="2637000"/>
            <a:ext cx="1176120" cy="4824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" descr=""/>
          <p:cNvPicPr/>
          <p:nvPr/>
        </p:nvPicPr>
        <p:blipFill>
          <a:blip r:embed="rId4"/>
          <a:stretch/>
        </p:blipFill>
        <p:spPr>
          <a:xfrm>
            <a:off x="5264280" y="3429000"/>
            <a:ext cx="1589040" cy="3808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"/>
          <p:cNvPicPr/>
          <p:nvPr/>
        </p:nvPicPr>
        <p:blipFill>
          <a:blip r:embed="rId5"/>
          <a:stretch/>
        </p:blipFill>
        <p:spPr>
          <a:xfrm>
            <a:off x="5283360" y="1598760"/>
            <a:ext cx="822240" cy="4507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" descr=""/>
          <p:cNvPicPr/>
          <p:nvPr/>
        </p:nvPicPr>
        <p:blipFill>
          <a:blip r:embed="rId6"/>
          <a:stretch/>
        </p:blipFill>
        <p:spPr>
          <a:xfrm>
            <a:off x="5148360" y="4065480"/>
            <a:ext cx="2519280" cy="4176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" descr=""/>
          <p:cNvPicPr/>
          <p:nvPr/>
        </p:nvPicPr>
        <p:blipFill>
          <a:blip r:embed="rId7"/>
          <a:stretch/>
        </p:blipFill>
        <p:spPr>
          <a:xfrm>
            <a:off x="5281560" y="4508640"/>
            <a:ext cx="11732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755640" y="522936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OP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447840" y="1865160"/>
            <a:ext cx="37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Diagram 11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232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4"/>
          <p:cNvSpPr/>
          <p:nvPr/>
        </p:nvSpPr>
        <p:spPr>
          <a:xfrm>
            <a:off x="755640" y="522936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OP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447840" y="1865160"/>
            <a:ext cx="37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Diagram 11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294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4"/>
          <p:cNvSpPr/>
          <p:nvPr/>
        </p:nvSpPr>
        <p:spPr>
          <a:xfrm>
            <a:off x="755640" y="522936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447840" y="1865160"/>
            <a:ext cx="37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447840" y="404640"/>
            <a:ext cx="3182760" cy="45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8" name="Picture 1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183120" cy="45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4537080" cy="4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oints Run Through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611280" y="522936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ew 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1655640" y="981000"/>
            <a:ext cx="55594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4537080" cy="4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oints Run Through’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611280" y="522936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ew 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1692360" y="806400"/>
            <a:ext cx="58737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1374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oading of wagons on Network Rail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611280" y="522936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ew 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3" descr=""/>
          <p:cNvPicPr/>
          <p:nvPr/>
        </p:nvPicPr>
        <p:blipFill>
          <a:blip r:embed="rId1"/>
          <a:stretch/>
        </p:blipFill>
        <p:spPr>
          <a:xfrm>
            <a:off x="4363920" y="1681200"/>
            <a:ext cx="4535640" cy="3024000"/>
          </a:xfrm>
          <a:prstGeom prst="rect">
            <a:avLst/>
          </a:prstGeom>
          <a:ln w="0">
            <a:noFill/>
          </a:ln>
        </p:spPr>
      </p:pic>
      <p:sp>
        <p:nvSpPr>
          <p:cNvPr id="678" name="TextBox 4"/>
          <p:cNvSpPr/>
          <p:nvPr/>
        </p:nvSpPr>
        <p:spPr>
          <a:xfrm>
            <a:off x="250920" y="148428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Possession Group requested to look into the issues of high sided wa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tibility of wagon and OTM for all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looking at loading of track panels on Salmon Wag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posed to develop New Code of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1374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he IPOSG needs volunteers to input to the workings of the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lease contact either Jack Pendle or Ian Rawlings if you feel you could contribute in any 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611280" y="5229360"/>
            <a:ext cx="7648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ssistanc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C:\Users\pendlej\AppData\Local\Microsoft\Windows\Temporary Internet Files\Content.IE5\BA14LD5X\need_you[1].jpg"/>
          <p:cNvPicPr/>
          <p:nvPr/>
        </p:nvPicPr>
        <p:blipFill>
          <a:blip r:embed="rId1"/>
          <a:stretch/>
        </p:blipFill>
        <p:spPr>
          <a:xfrm>
            <a:off x="3564000" y="1413000"/>
            <a:ext cx="16444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0:20:18Z</dcterms:created>
  <dc:creator>Chris Golden</dc:creator>
  <dc:description/>
  <dc:language>en-US</dc:language>
  <cp:lastModifiedBy>ianrawlings</cp:lastModifiedBy>
  <cp:lastPrinted>2015-06-09T12:50:02Z</cp:lastPrinted>
  <dcterms:modified xsi:type="dcterms:W3CDTF">2016-06-09T10:23:11Z</dcterms:modified>
  <cp:revision>424</cp:revision>
  <dc:subject/>
  <dc:title>Dia 1</dc:title>
</cp:coreProperties>
</file>